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unit in each case?  10, 1/3, x – same thinking (7+3)x = 11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used doubling, then adding, then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hows understanding of equivalence (a=b, c=d, a+c=b+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minute to think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where communication st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learning community works through the synergy of shar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how you “know the lear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ou can’t respond without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will use this during ou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DD49-00B4-4003-B970-EF55738F8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FBB9-9057-447F-B05C-7605EF5A0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42AB-49C6-49B9-A45C-6ED20CEF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57EB-7652-488F-999B-4CE04C1B5D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03A1-A317-42F5-B404-2BFCFF030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1B10-2883-4E59-B325-74A331B2C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BD87-2777-42BA-85D5-C26ED9E30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0FD4-719C-43B3-BA8F-1A84C3D2F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4EA6-9F9B-49C8-9F67-9C260327F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0AED-89A9-48B4-9965-29B16DEBA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C348-C919-4D33-B7F3-2BC39C398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020C-39CA-4244-A88E-7229CD9A4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5709-2D96-4EF5-ABCA-3C39054AD5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operativelearning.nuvvo.com/lesson/9592-seinfeld-teaches-history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4A51-4639-4378-A619-400D9225DE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 To understand how work with fractions supports 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To practice interpretive listening and responding as stud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59FB-3D15-4629-BC6B-87A486EEB4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Matt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offer students the opportunity to grapple with fundamental mathematical relationships that constitute the core of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ght integration of number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2 ½ is 2 plus ½, it is also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3/5 is 3 divided by 5, it is also 3 times 1/5, 0.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D96-E480-4EC3-B94B-5EFCBCB1DE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the uni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n “units” plus 4 “units” gives 11 “un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2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7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70 + 40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7/3 + 4/3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7x+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A0C5-ABC6-4AAC-AF85-06C540B1B8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relationships…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E7A4-B22E-4944-B734-43E5960B9A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3657600" cy="409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724280" y="2536920"/>
            <a:ext cx="2543400" cy="598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685800" y="4641840"/>
            <a:ext cx="3200400" cy="752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9" name="TextBox 4"/>
          <p:cNvSpPr/>
          <p:nvPr/>
        </p:nvSpPr>
        <p:spPr>
          <a:xfrm>
            <a:off x="624852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** add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Multiplicat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4120" y="18666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“groups of” and repeated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Multi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84E0-2A2C-44B4-9690-FD439EA6A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3174840" y="2895480"/>
                <a:ext cx="96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Cloud Callout 5"/>
          <p:cNvSpPr/>
          <p:nvPr/>
        </p:nvSpPr>
        <p:spPr>
          <a:xfrm>
            <a:off x="5410080" y="2590920"/>
            <a:ext cx="2895840" cy="1676160"/>
          </a:xfrm>
          <a:prstGeom prst="cloudCallout">
            <a:avLst>
              <a:gd name="adj1" fmla="val -85995"/>
              <a:gd name="adj2" fmla="val -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 groups of two and two thi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tributive Intui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93DE-F6F0-46A8-9B17-3C86ABE9BC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Content Placeholder 4"/>
              <p:cNvSpPr txBox="1"/>
              <p:nvPr/>
            </p:nvSpPr>
            <p:spPr>
              <a:xfrm>
                <a:off x="1154160" y="1563840"/>
                <a:ext cx="992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Group 57"/>
          <p:cNvGrpSpPr/>
          <p:nvPr/>
        </p:nvGrpSpPr>
        <p:grpSpPr>
          <a:xfrm>
            <a:off x="4343400" y="1790640"/>
            <a:ext cx="4361040" cy="1411200"/>
            <a:chOff x="4343400" y="1790640"/>
            <a:chExt cx="4361040" cy="1411200"/>
          </a:xfrm>
        </p:grpSpPr>
        <p:grpSp>
          <p:nvGrpSpPr>
            <p:cNvPr id="109" name="Group 12"/>
            <p:cNvGrpSpPr/>
            <p:nvPr/>
          </p:nvGrpSpPr>
          <p:grpSpPr>
            <a:xfrm>
              <a:off x="4343400" y="1790640"/>
              <a:ext cx="4346640" cy="230400"/>
              <a:chOff x="4343400" y="1790640"/>
              <a:chExt cx="4346640" cy="230400"/>
            </a:xfrm>
          </p:grpSpPr>
          <p:sp>
            <p:nvSpPr>
              <p:cNvPr id="110" name="Rectangle 8"/>
              <p:cNvSpPr/>
              <p:nvPr/>
            </p:nvSpPr>
            <p:spPr>
              <a:xfrm>
                <a:off x="4343400" y="17906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5794560" y="17906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7242480" y="1792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8225640" y="17924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13"/>
            <p:cNvGrpSpPr/>
            <p:nvPr/>
          </p:nvGrpSpPr>
          <p:grpSpPr>
            <a:xfrm>
              <a:off x="4345200" y="2030040"/>
              <a:ext cx="4346640" cy="230400"/>
              <a:chOff x="4345200" y="2030040"/>
              <a:chExt cx="4346640" cy="230400"/>
            </a:xfrm>
          </p:grpSpPr>
          <p:sp>
            <p:nvSpPr>
              <p:cNvPr id="115" name="Rectangle 14"/>
              <p:cNvSpPr/>
              <p:nvPr/>
            </p:nvSpPr>
            <p:spPr>
              <a:xfrm>
                <a:off x="4345200" y="2030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5796360" y="2030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7244280" y="20318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8227440" y="20318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8"/>
            <p:cNvGrpSpPr/>
            <p:nvPr/>
          </p:nvGrpSpPr>
          <p:grpSpPr>
            <a:xfrm>
              <a:off x="4350600" y="2255040"/>
              <a:ext cx="4346640" cy="230400"/>
              <a:chOff x="4350600" y="2255040"/>
              <a:chExt cx="4346640" cy="230400"/>
            </a:xfrm>
          </p:grpSpPr>
          <p:sp>
            <p:nvSpPr>
              <p:cNvPr id="120" name="Rectangle 19"/>
              <p:cNvSpPr/>
              <p:nvPr/>
            </p:nvSpPr>
            <p:spPr>
              <a:xfrm>
                <a:off x="4350600" y="2255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5801760" y="2255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7249680" y="22568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8232840" y="22568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23"/>
            <p:cNvGrpSpPr/>
            <p:nvPr/>
          </p:nvGrpSpPr>
          <p:grpSpPr>
            <a:xfrm>
              <a:off x="4350600" y="2507040"/>
              <a:ext cx="4346640" cy="230400"/>
              <a:chOff x="4350600" y="2507040"/>
              <a:chExt cx="4346640" cy="230400"/>
            </a:xfrm>
          </p:grpSpPr>
          <p:sp>
            <p:nvSpPr>
              <p:cNvPr id="125" name="Rectangle 24"/>
              <p:cNvSpPr/>
              <p:nvPr/>
            </p:nvSpPr>
            <p:spPr>
              <a:xfrm>
                <a:off x="4350600" y="2507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5801760" y="25070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7249680" y="25088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8232840" y="25088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8"/>
            <p:cNvGrpSpPr/>
            <p:nvPr/>
          </p:nvGrpSpPr>
          <p:grpSpPr>
            <a:xfrm>
              <a:off x="4352400" y="2746440"/>
              <a:ext cx="4346640" cy="230400"/>
              <a:chOff x="4352400" y="2746440"/>
              <a:chExt cx="4346640" cy="230400"/>
            </a:xfrm>
          </p:grpSpPr>
          <p:sp>
            <p:nvSpPr>
              <p:cNvPr id="130" name="Rectangle 29"/>
              <p:cNvSpPr/>
              <p:nvPr/>
            </p:nvSpPr>
            <p:spPr>
              <a:xfrm>
                <a:off x="4352400" y="2746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5803560" y="2746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7251480" y="27482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8234640" y="27482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33"/>
            <p:cNvGrpSpPr/>
            <p:nvPr/>
          </p:nvGrpSpPr>
          <p:grpSpPr>
            <a:xfrm>
              <a:off x="4357800" y="2971440"/>
              <a:ext cx="4346640" cy="230400"/>
              <a:chOff x="4357800" y="2971440"/>
              <a:chExt cx="4346640" cy="230400"/>
            </a:xfrm>
          </p:grpSpPr>
          <p:sp>
            <p:nvSpPr>
              <p:cNvPr id="135" name="Rectangle 34"/>
              <p:cNvSpPr/>
              <p:nvPr/>
            </p:nvSpPr>
            <p:spPr>
              <a:xfrm>
                <a:off x="4357800" y="2971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5808960" y="29714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7256880" y="2973240"/>
                <a:ext cx="1447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8240040" y="2973240"/>
                <a:ext cx="4568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Cloud Callout 43"/>
          <p:cNvSpPr/>
          <p:nvPr/>
        </p:nvSpPr>
        <p:spPr>
          <a:xfrm>
            <a:off x="2666880" y="3176640"/>
            <a:ext cx="2286000" cy="1477800"/>
          </a:xfrm>
          <a:prstGeom prst="cloudCallout">
            <a:avLst>
              <a:gd name="adj1" fmla="val 61453"/>
              <a:gd name="adj2" fmla="val -42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 Callout 44"/>
          <p:cNvSpPr/>
          <p:nvPr/>
        </p:nvSpPr>
        <p:spPr>
          <a:xfrm>
            <a:off x="6097680" y="3733920"/>
            <a:ext cx="2386080" cy="1218960"/>
          </a:xfrm>
          <a:prstGeom prst="cloudCallout">
            <a:avLst>
              <a:gd name="adj1" fmla="val 26379"/>
              <a:gd name="adj2" fmla="val -88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7"/>
          <p:cNvGrpSpPr/>
          <p:nvPr/>
        </p:nvGrpSpPr>
        <p:grpSpPr>
          <a:xfrm>
            <a:off x="4352760" y="1600200"/>
            <a:ext cx="2903760" cy="1828800"/>
            <a:chOff x="4352760" y="1600200"/>
            <a:chExt cx="2903760" cy="1828800"/>
          </a:xfrm>
        </p:grpSpPr>
        <p:sp>
          <p:nvSpPr>
            <p:cNvPr id="142" name="Oval 45"/>
            <p:cNvSpPr/>
            <p:nvPr/>
          </p:nvSpPr>
          <p:spPr>
            <a:xfrm>
              <a:off x="4352760" y="1600200"/>
              <a:ext cx="2903760" cy="18288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6"/>
            <p:cNvSpPr/>
            <p:nvPr/>
          </p:nvSpPr>
          <p:spPr>
            <a:xfrm>
              <a:off x="5199840" y="188172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1"/>
          <p:cNvGrpSpPr/>
          <p:nvPr/>
        </p:nvGrpSpPr>
        <p:grpSpPr>
          <a:xfrm>
            <a:off x="7203960" y="1474920"/>
            <a:ext cx="1371600" cy="1828800"/>
            <a:chOff x="7203960" y="1474920"/>
            <a:chExt cx="1371600" cy="1828800"/>
          </a:xfrm>
        </p:grpSpPr>
        <p:sp>
          <p:nvSpPr>
            <p:cNvPr id="145" name="Oval 49"/>
            <p:cNvSpPr/>
            <p:nvPr/>
          </p:nvSpPr>
          <p:spPr>
            <a:xfrm>
              <a:off x="7203960" y="1474920"/>
              <a:ext cx="1219320" cy="18288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0"/>
            <p:cNvSpPr/>
            <p:nvPr/>
          </p:nvSpPr>
          <p:spPr>
            <a:xfrm>
              <a:off x="7356240" y="178596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roduction to Area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Coun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s /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mensions /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FEF8-0D42-455C-9DF9-86FB5A8926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481120" cy="203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5529240" y="3809880"/>
            <a:ext cx="2090880" cy="1578240"/>
          </a:xfrm>
          <a:prstGeom prst="rect">
            <a:avLst/>
          </a:prstGeom>
          <a:ln w="0">
            <a:noFill/>
          </a:ln>
        </p:spPr>
      </p:pic>
      <p:sp>
        <p:nvSpPr>
          <p:cNvPr id="152" name="Cloud Callout 7"/>
          <p:cNvSpPr/>
          <p:nvPr/>
        </p:nvSpPr>
        <p:spPr>
          <a:xfrm>
            <a:off x="1600200" y="2751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+ 4 + 4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loud Callout 11"/>
          <p:cNvSpPr/>
          <p:nvPr/>
        </p:nvSpPr>
        <p:spPr>
          <a:xfrm>
            <a:off x="1981080" y="4983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x 4 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oose your Teacher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one person from your group to act as the “teacher” for the nex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chers go away to “prep” th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E8AA-9C52-4D68-A364-F9CC4E3698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Stems for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come up with a set of question “stems” that you will use as students during the 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stems on a tent card at you table for quick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43F0-3D70-4C60-837D-513626726E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through the questions as a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Listening and Questioning to build on each other’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thinking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FF08-EFD5-4A76-8870-9ECC753E24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, practice,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and question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eachers and students in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nection between number sense, fractions and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area model supports math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B55-D8C1-4C79-A492-BC2F9D89CF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 consolidation or  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8A40-79D1-4F71-A0CC-04E1C6D6B8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it feel being a teacher /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have any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C01A-6649-4943-87D3-6EEEDF627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AD3-12FC-4209-9326-4AD2BD9B97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ing : Why?  How?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 concepts and the 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s and algebraic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D4D9-B728-45FF-B52F-24D143CE56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room Vignet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7EF7-E989-42EC-A17F-934FB73A4E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ry Sienfeld teache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8 : The Pythagorea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do you Notic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 two “cla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0AA5-B579-4E32-8267-AE6EE95041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Talk Learning Commun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d the Research Synop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igh light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iew the Action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4283-B3D8-4BF3-B1C6-705E95AD95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Listening in a Learning Communit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D540-DBCF-4CCB-BC69-E18BE3496F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erpretive Liste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yer Model for Interpretive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2D6-B552-4E47-A405-73DF254E5E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Canvas 1"/>
          <p:cNvGrpSpPr/>
          <p:nvPr/>
        </p:nvGrpSpPr>
        <p:grpSpPr>
          <a:xfrm>
            <a:off x="3105000" y="2170080"/>
            <a:ext cx="5486400" cy="3200400"/>
            <a:chOff x="3105000" y="2170080"/>
            <a:chExt cx="5486400" cy="3200400"/>
          </a:xfrm>
        </p:grpSpPr>
        <p:sp>
          <p:nvSpPr>
            <p:cNvPr id="75" name="Rectangle 16"/>
            <p:cNvSpPr/>
            <p:nvPr/>
          </p:nvSpPr>
          <p:spPr>
            <a:xfrm>
              <a:off x="3105000" y="217008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3390480" y="2427120"/>
              <a:ext cx="5124600" cy="287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8"/>
            <p:cNvSpPr/>
            <p:nvPr/>
          </p:nvSpPr>
          <p:spPr>
            <a:xfrm>
              <a:off x="5952960" y="2427120"/>
              <a:ext cx="0" cy="287676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19"/>
            <p:cNvSpPr/>
            <p:nvPr/>
          </p:nvSpPr>
          <p:spPr>
            <a:xfrm>
              <a:off x="3390480" y="3865680"/>
              <a:ext cx="5124600" cy="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0"/>
            <p:cNvSpPr/>
            <p:nvPr/>
          </p:nvSpPr>
          <p:spPr>
            <a:xfrm>
              <a:off x="5362560" y="3379680"/>
              <a:ext cx="1123920" cy="981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6"/>
            <p:cNvSpPr/>
            <p:nvPr/>
          </p:nvSpPr>
          <p:spPr>
            <a:xfrm>
              <a:off x="5314680" y="35607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pretive Liste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3390480" y="2427120"/>
              <a:ext cx="12477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7285680" y="2427120"/>
              <a:ext cx="12477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390480" y="3865680"/>
              <a:ext cx="124776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7124760" y="3865680"/>
              <a:ext cx="1390680" cy="5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9T01:29:07Z</dcterms:modified>
  <cp:revision>45</cp:revision>
  <dc:subject/>
  <dc:title>&lt;Title&gt;</dc:title>
</cp:coreProperties>
</file>